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5.wmf" ContentType="image/x-wmf"/>
  <Override PartName="/ppt/media/image30.wmf" ContentType="image/x-wmf"/>
  <Override PartName="/ppt/media/image28.wmf" ContentType="image/x-wmf"/>
  <Override PartName="/ppt/media/image6.png" ContentType="image/png"/>
  <Override PartName="/ppt/media/image14.wmf" ContentType="image/x-wmf"/>
  <Override PartName="/ppt/media/image12.jpeg" ContentType="image/jpeg"/>
  <Override PartName="/ppt/media/image16.wmf" ContentType="image/x-wmf"/>
  <Override PartName="/ppt/media/image8.png" ContentType="image/png"/>
  <Override PartName="/ppt/media/image7.wmf" ContentType="image/x-wmf"/>
  <Override PartName="/ppt/media/image11.jpeg" ContentType="image/jpeg"/>
  <Override PartName="/ppt/media/image9.wmf" ContentType="image/x-wmf"/>
  <Override PartName="/ppt/media/image10.jpeg" ContentType="image/jpeg"/>
  <Override PartName="/ppt/media/image13.wmf" ContentType="image/x-wmf"/>
  <Override PartName="/ppt/media/image31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5.wmf" ContentType="image/x-wmf"/>
  <Override PartName="/ppt/media/image17.wmf" ContentType="image/x-wmf"/>
  <Override PartName="/ppt/media/image19.png" ContentType="image/png"/>
  <Override PartName="/ppt/media/image21.png" ContentType="image/png"/>
  <Override PartName="/ppt/media/image18.wmf" ContentType="image/x-wmf"/>
  <Override PartName="/ppt/media/image20.png" ContentType="image/png"/>
  <Override PartName="/ppt/media/image22.png" ContentType="image/png"/>
  <Override PartName="/ppt/media/image23.jpeg" ContentType="image/jpeg"/>
  <Override PartName="/ppt/media/image2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983413" cy="10148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2AFE3-9AB5-4746-8EE7-79739E267E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A5166-646D-4EDD-9C37-1CDD86B4A5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632B8-EE77-4A7B-A731-2388DDFFE4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3BFBF-3F2C-4FA1-984A-D590A28EC3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0" y="-2520"/>
            <a:ext cx="9144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83469-5218-4012-AAEC-664A357CBA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9168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8336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0FCF6-5C96-48B8-9911-8EEE20D76FB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0" y="-2520"/>
            <a:ext cx="9144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09168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18336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C480B5-D5C1-4952-90D3-88AA8020C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9C41FC-B4FE-4719-BC16-C5BBAC01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36BAD8-2D1B-43F1-A388-DDA6BCC9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14A7C-B694-46ED-A49C-F7A6D79E59B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41B061-7593-4FEC-8978-86F3AE9F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32D5E8-549A-414C-B1AC-6FD98EE6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0" y="-2520"/>
            <a:ext cx="9144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8E33DE-3F05-45BF-966B-C5C68D5C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D5C788-7329-4624-95EB-558DD6A8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2E5437-373E-4FF6-9286-3766E6D8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7109F2-044A-4987-B580-A90AB5B3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9FA80A-42D8-4AAE-AC6D-A7700834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9C36DD-8715-498D-8AA0-0042B9760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09168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18336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A1DCC9-E914-4F20-85A9-375869BEA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6427E5-5936-427B-9589-014690A67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F9D5A-25AF-4361-A5ED-D307BB47C70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93EB77-388C-40D8-8ED7-166EF384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6074D6-0488-4C74-808B-6D97A945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7BEF02-E553-4A3D-86D2-E85C20C5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0A21E9-B46A-4B22-8804-04FA667D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0" y="-2520"/>
            <a:ext cx="9144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FCEFE2-25ED-4299-A05D-DE5BBC34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447FA3-C855-4546-96E0-2D13CB01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110A9A-5FA4-413D-B39D-F40CEEE0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C935FA-F8BD-4620-9343-46B44C03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B5FC86-0D7E-471D-AE74-0A9DAD00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2D0D8F-C4BF-41F2-9362-F4E347BE9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2520"/>
            <a:ext cx="9144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01892-1135-4672-A23C-0D3FB7F819E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09168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18336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4B9014-2718-4A51-A0A5-018FA1E71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52FF14-78D8-4D65-B26C-2B534D4C8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568F4B-7D35-4902-B039-629F4D08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3A4230-C7E7-4057-A792-94318D01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E2B944-2065-4F2C-A840-1DC6539F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A33A6B-5AA0-4692-9AC9-39C9F613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0" y="-2520"/>
            <a:ext cx="9144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C08A1F-DB2C-448E-AA5A-BDB98424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1F459D-5077-4048-A1BA-F2DBB6B8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CB2E64-2BFD-426A-9D20-21C05308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0E37B1-073F-442D-B7DD-1CB29FCD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A3C25-8C1A-49C6-BC43-87D8DF151D0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43D2FF-9455-43E5-8FFA-D7DF8098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D8C6CB-57D3-4A45-8DBC-4C83AB14B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09168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8336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5C8891-36EC-42C2-83EB-051652BE1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CFF51-3A25-48AF-B416-A1841E646B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39238-0219-4568-8128-E1FA618CD3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A471-D234-4DF9-94BC-EC380AD0E5EF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8458200" cy="160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38280" cy="731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714760" y="0"/>
            <a:ext cx="64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K. Long, </a:t>
            </a:r>
            <a:fld id="{046871A5-2270-4958-938B-05F14C2612B6}" type="datetime3"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July 29, 2026</a:t>
            </a:fld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cc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ff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99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99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b716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f0b716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99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3"/>
          </p:nvPr>
        </p:nvSpPr>
        <p:spPr>
          <a:xfrm>
            <a:off x="3429000" y="6381360"/>
            <a:ext cx="1371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171F-DD9A-4B59-9DE7-5C1F14B0C8FB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4"/>
          </p:nvPr>
        </p:nvSpPr>
        <p:spPr>
          <a:xfrm>
            <a:off x="48765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5"/>
          </p:nvPr>
        </p:nvSpPr>
        <p:spPr>
          <a:xfrm>
            <a:off x="611280" y="6400800"/>
            <a:ext cx="244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050922 ISS Physics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6"/>
          </p:nvPr>
        </p:nvSpPr>
        <p:spPr>
          <a:xfrm>
            <a:off x="3124080" y="6400800"/>
            <a:ext cx="339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V. Palladino:Super Conventional Bea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DE82-1DFC-4C5A-A797-84499222E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ＭＳ Ｐゴシック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ＭＳ Ｐゴシック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5ff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ebf5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ebf5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ebf5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bf5ff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ebf5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ebf5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ebf5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ebf5ff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ebf5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ebf5ff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ebf5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ebf5ff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ebf5ff"/>
              </a:solidFill>
              <a:latin typeface="ＭＳ Ｐゴシック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8"/>
          </p:nvPr>
        </p:nvSpPr>
        <p:spPr>
          <a:xfrm>
            <a:off x="30481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CA3A-EBBB-4ADA-A153-E4A82B19E01E}" type="datetime">
              <a:rPr b="0" lang="ja-JP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9"/>
          </p:nvPr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0"/>
          </p:nvPr>
        </p:nvSpPr>
        <p:spPr>
          <a:xfrm>
            <a:off x="7543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29C9-FDDF-413D-BB2C-59379022E2ED}" type="slidenum">
              <a:rPr b="0" lang="en-US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3353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ＭＳ Ｐゴシック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ＭＳ Ｐゴシック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dt" idx="1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3E3CD-EF75-4C80-BBD6-84CE6F378A48}" type="datetime">
              <a:rPr b="0" lang="ja-JP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rPr>
              <a:t>26/0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ftr" idx="12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sldNum" idx="1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2268-646B-4689-ABBD-5D22651C9233}" type="slidenum">
              <a:rPr b="0" lang="en-US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jpeg"/><Relationship Id="rId6" Type="http://schemas.openxmlformats.org/officeDocument/2006/relationships/image" Target="../media/image24.wmf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rcRect l="2233" t="2712" r="2200" b="4278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The most challenging task: 2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0" y="730080"/>
            <a:ext cx="6372360" cy="61279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6372360" y="787320"/>
            <a:ext cx="2771640" cy="61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ncremental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mplication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ait until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1" lang="en-US" sz="2800" spc="-1" strike="noStrike" baseline="-25000">
                <a:solidFill>
                  <a:srgbClr val="ffffcc"/>
                </a:solidFill>
                <a:latin typeface="Arial"/>
              </a:rPr>
              <a:t>13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know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o refute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Have to show that there exists a facility that gives significant improvement over all </a:t>
            </a:r>
            <a:r>
              <a:rPr b="1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1" lang="en-US" sz="2800" spc="-1" strike="noStrike" baseline="-25000">
                <a:solidFill>
                  <a:srgbClr val="ffffcc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achine assumptions: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Super-beam and Neutrino Factory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280720" y="889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ir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360360" y="1332000"/>
            <a:ext cx="6732720" cy="55260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407280" y="6292800"/>
            <a:ext cx="24742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nly, one sig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achine assumptions: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Beta-beam, reference facility (100/100)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539480" y="14436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enedic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936720" y="1413000"/>
            <a:ext cx="7235640" cy="54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achine assumptions: 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Green-field facility (350/350)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538680" y="179280"/>
            <a:ext cx="264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Lindroos/Hernande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706320" y="1379520"/>
            <a:ext cx="772956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Impact: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Large scale structure: Kachelreiss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Power-density of CMB has significant implications for neutrino mass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Challenges</a:t>
            </a:r>
            <a:br>
              <a:rPr sz="3200"/>
            </a:b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of neutrino</a:t>
            </a:r>
            <a:br>
              <a:rPr sz="3200"/>
            </a:b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physics:</a:t>
            </a:r>
            <a:br>
              <a:rPr sz="3200"/>
            </a:b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King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3059280" y="2349360"/>
            <a:ext cx="5940360" cy="44499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3132000" y="5805360"/>
            <a:ext cx="3888000" cy="57636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Impact: … model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956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Tri-bimaximal mixing: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Hypothesis: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ff"/>
                </a:solidFill>
                <a:latin typeface="Arial"/>
              </a:rPr>
              <a:t>Motivated by ‘symmetry’</a:t>
            </a:r>
            <a:endParaRPr b="1" lang="en-US" sz="20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48320" y="761760"/>
            <a:ext cx="44956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Models: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ff"/>
                </a:solidFill>
                <a:latin typeface="Arial"/>
              </a:rPr>
              <a:t>Links quarks and leptons</a:t>
            </a:r>
            <a:endParaRPr b="1" lang="en-US" sz="2000" spc="-1" strike="noStrike">
              <a:solidFill>
                <a:srgbClr val="ffcc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80060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826920" y="5661000"/>
            <a:ext cx="7561440" cy="576360"/>
            <a:chOff x="826920" y="5661000"/>
            <a:chExt cx="7561440" cy="576360"/>
          </a:xfrm>
        </p:grpSpPr>
        <p:sp>
          <p:nvSpPr>
            <p:cNvPr id="330" name=""/>
            <p:cNvSpPr/>
            <p:nvPr/>
          </p:nvSpPr>
          <p:spPr>
            <a:xfrm>
              <a:off x="826920" y="5661000"/>
              <a:ext cx="5040360" cy="576360"/>
            </a:xfrm>
            <a:prstGeom prst="rect">
              <a:avLst/>
            </a:prstGeom>
            <a:noFill/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867280" y="5950080"/>
              <a:ext cx="21744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084720" y="5670720"/>
              <a:ext cx="2303640" cy="459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Constraint!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8250120" y="1443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b716"/>
                </a:solidFill>
                <a:latin typeface="Comic Sans MS"/>
              </a:rPr>
              <a:t>The Muon Trio:</a:t>
            </a:r>
            <a:endParaRPr b="0" lang="en-US" sz="3200" spc="-1" strike="noStrike">
              <a:solidFill>
                <a:srgbClr val="f0b716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pton Flavor Viola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uon MDM (g-2)          </a:t>
            </a:r>
            <a:r>
              <a:rPr b="0" lang="en-US" sz="2800" spc="-1" strike="noStrike">
                <a:solidFill>
                  <a:srgbClr val="ed032a"/>
                </a:solidFill>
                <a:latin typeface="Comic Sans MS"/>
              </a:rPr>
              <a:t>chiral changing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uon ED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619200" y="3352680"/>
            <a:ext cx="7707240" cy="7686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1876320" y="4248000"/>
            <a:ext cx="4691160" cy="45576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2162160" y="6126120"/>
            <a:ext cx="6307200" cy="4618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4"/>
          <a:stretch/>
        </p:blipFill>
        <p:spPr>
          <a:xfrm>
            <a:off x="1590840" y="5165640"/>
            <a:ext cx="7229160" cy="9414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3881520" y="3200400"/>
            <a:ext cx="4728960" cy="107640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5"/>
          <a:srcRect l="3941" t="6107" r="3941" b="6107"/>
          <a:stretch/>
        </p:blipFill>
        <p:spPr>
          <a:xfrm>
            <a:off x="5181480" y="685800"/>
            <a:ext cx="3432240" cy="21099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6"/>
          <a:srcRect l="0" t="7682" r="0" b="5764"/>
          <a:stretch/>
        </p:blipFill>
        <p:spPr>
          <a:xfrm>
            <a:off x="685800" y="1066680"/>
            <a:ext cx="3048120" cy="16574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7"/>
          <a:stretch/>
        </p:blipFill>
        <p:spPr>
          <a:xfrm>
            <a:off x="5410080" y="917640"/>
            <a:ext cx="3200400" cy="24066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37440" y="9216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Lee Rober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155440" y="921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Ell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A08B1E-D6B0-419B-97D6-3DA8232ACB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b716"/>
                </a:solidFill>
                <a:latin typeface="Comic Sans MS"/>
              </a:rPr>
              <a:t>General Statements</a:t>
            </a:r>
            <a:endParaRPr b="0" lang="en-US" sz="3600" spc="-1" strike="noStrike">
              <a:solidFill>
                <a:srgbClr val="f0b716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e know that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oscillat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neutral lepton flavor violation</a:t>
            </a:r>
            <a:endParaRPr b="0" lang="en-US" sz="2800" spc="-1" strike="noStrike">
              <a:solidFill>
                <a:srgbClr val="66ccff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xpect Charged lepton flavor violation at som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enhanced if there is new dynamics at the TeV scale</a:t>
            </a:r>
            <a:endParaRPr b="0" lang="en-US" sz="2800" spc="-1" strike="noStrike">
              <a:solidFill>
                <a:srgbClr val="66ccff"/>
              </a:solidFill>
              <a:latin typeface="Comic Sans MS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ff66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in particular if there is SUSY</a:t>
            </a:r>
            <a:endParaRPr b="0" lang="en-US" sz="2400" spc="-1" strike="noStrike">
              <a:solidFill>
                <a:srgbClr val="ff6699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e expect 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CP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n the lepton sector    (EDMs as well as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oscillations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possible connection with cosmology (leptogenesis) </a:t>
            </a:r>
            <a:endParaRPr b="0" lang="en-US" sz="2800" spc="-1" strike="noStrike">
              <a:solidFill>
                <a:srgbClr val="66ccff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2971800" y="4572000"/>
            <a:ext cx="609480" cy="38088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E2ACF2-94BB-406F-B47C-93E95340FC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b716"/>
                </a:solidFill>
                <a:latin typeface="Comic Sans MS"/>
              </a:rPr>
              <a:t>At a </a:t>
            </a:r>
            <a:r>
              <a:rPr b="0" i="1" lang="en-US" sz="3200" spc="-1" strike="noStrike">
                <a:solidFill>
                  <a:srgbClr val="f0b716"/>
                </a:solidFill>
                <a:latin typeface="Symbol"/>
                <a:ea typeface="Symbol"/>
              </a:rPr>
              <a:t></a:t>
            </a:r>
            <a:r>
              <a:rPr b="0" lang="en-US" sz="3200" spc="-1" strike="noStrike">
                <a:solidFill>
                  <a:srgbClr val="f0b716"/>
                </a:solidFill>
                <a:latin typeface="Comic Sans MS"/>
              </a:rPr>
              <a:t>-factory, also have a </a:t>
            </a:r>
            <a:r>
              <a:rPr b="0" i="1" lang="en-US" sz="3200" spc="-1" strike="noStrike">
                <a:solidFill>
                  <a:srgbClr val="f0b716"/>
                </a:solidFill>
                <a:latin typeface="Symbol"/>
                <a:ea typeface="Symbol"/>
              </a:rPr>
              <a:t></a:t>
            </a:r>
            <a:r>
              <a:rPr b="0" lang="en-US" sz="3200" spc="-1" strike="noStrike">
                <a:solidFill>
                  <a:srgbClr val="f0b716"/>
                </a:solidFill>
                <a:latin typeface="Comic Sans MS"/>
              </a:rPr>
              <a:t>-factory </a:t>
            </a:r>
            <a:endParaRPr b="0" lang="en-US" sz="3200" spc="-1" strike="noStrike">
              <a:solidFill>
                <a:srgbClr val="f0b716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flux will permit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A dedicated search for a permanent muon EDM ( P, T ) to 10</a:t>
            </a:r>
            <a:r>
              <a:rPr b="0" lang="en-US" sz="2800" spc="-1" strike="noStrike" baseline="30000">
                <a:solidFill>
                  <a:srgbClr val="66ccff"/>
                </a:solidFill>
                <a:latin typeface="Comic Sans MS"/>
              </a:rPr>
              <a:t>-24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 e cm and beyond.</a:t>
            </a:r>
            <a:endParaRPr b="0" lang="en-US" sz="2800" spc="-1" strike="noStrike">
              <a:solidFill>
                <a:srgbClr val="66c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Search for muon Flavor Violation to below 10</a:t>
            </a:r>
            <a:r>
              <a:rPr b="0" lang="en-US" sz="2800" spc="-1" strike="noStrike" baseline="30000">
                <a:solidFill>
                  <a:srgbClr val="66ccff"/>
                </a:solidFill>
                <a:latin typeface="Comic Sans MS"/>
              </a:rPr>
              <a:t>-18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 to 10</a:t>
            </a:r>
            <a:r>
              <a:rPr b="0" lang="en-US" sz="2800" spc="-1" strike="noStrike" baseline="30000">
                <a:solidFill>
                  <a:srgbClr val="66ccff"/>
                </a:solidFill>
                <a:latin typeface="Comic Sans MS"/>
              </a:rPr>
              <a:t>-19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 level, or if </a:t>
            </a:r>
            <a:r>
              <a:rPr b="0" i="1" lang="en-US" sz="2800" spc="-1" strike="noStrike">
                <a:solidFill>
                  <a:srgbClr val="66ccff"/>
                </a:solidFill>
                <a:latin typeface="Symbol"/>
                <a:ea typeface="Symbol"/>
              </a:rPr>
              <a:t>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FV is observed, it will be possible to make detailed studies of the reaction</a:t>
            </a:r>
            <a:endParaRPr b="0" lang="en-US" sz="2800" spc="-1" strike="noStrike">
              <a:solidFill>
                <a:srgbClr val="66ccff"/>
              </a:solidFill>
              <a:latin typeface="Comic Sans MS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1600200" y="5486400"/>
            <a:ext cx="5791320" cy="4827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 flipH="1">
            <a:off x="2819520" y="2362320"/>
            <a:ext cx="304560" cy="304560"/>
          </a:xfrm>
          <a:prstGeom prst="line">
            <a:avLst/>
          </a:prstGeom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2346480" y="2351160"/>
            <a:ext cx="304560" cy="304560"/>
          </a:xfrm>
          <a:prstGeom prst="line">
            <a:avLst/>
          </a:prstGeom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A7BCDD1-52DD-4D7F-A5C6-73110FCD6B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First steps 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towards physics chapter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98960" cy="68580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2124000" y="0"/>
            <a:ext cx="50007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57" name=""/>
          <p:cNvGrpSpPr/>
          <p:nvPr/>
        </p:nvGrpSpPr>
        <p:grpSpPr>
          <a:xfrm>
            <a:off x="4140360" y="0"/>
            <a:ext cx="5003640" cy="6858000"/>
            <a:chOff x="4140360" y="0"/>
            <a:chExt cx="5003640" cy="6858000"/>
          </a:xfrm>
        </p:grpSpPr>
        <p:sp>
          <p:nvSpPr>
            <p:cNvPr id="358" name=""/>
            <p:cNvSpPr/>
            <p:nvPr/>
          </p:nvSpPr>
          <p:spPr>
            <a:xfrm>
              <a:off x="4140360" y="3068640"/>
              <a:ext cx="5003640" cy="378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359" name="" descr=""/>
            <p:cNvPicPr/>
            <p:nvPr/>
          </p:nvPicPr>
          <p:blipFill>
            <a:blip r:embed="rId3"/>
            <a:stretch/>
          </p:blipFill>
          <p:spPr>
            <a:xfrm>
              <a:off x="4140360" y="0"/>
              <a:ext cx="5003640" cy="4334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8458200" cy="160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hysics working group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116000" y="3492000"/>
            <a:ext cx="7672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–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(not quite a) summary and plans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6021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…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with grateful thanks to PhysWG speakers and those wh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took part in the discuss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5580000" y="4873680"/>
            <a:ext cx="3564000" cy="19843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9966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0" y="712800"/>
            <a:ext cx="5576760" cy="61452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ropose: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580000" y="761760"/>
            <a:ext cx="356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Series of w/ss to focus work and to share tools and ideas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Each w/s documents progress and identifies next steps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Need to specify goals for first workshop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This week!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2276640"/>
            <a:ext cx="5580000" cy="470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lan to run as a ‘drop in centre’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990720" indent="-36684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Recognises that not all can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ome for all the days … though great if you ca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990720" indent="-36684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Weekend included for those that it helps with tra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Working meeting – emphasis on discussion and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WORK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pecific goals now defined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990720" indent="-36684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WWW page to be updat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ommon tools: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Enhance efficiency of those new to calculating sensitivities to oscillation parameters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rcRect l="8078" t="2397" r="8167" b="1871"/>
          <a:stretch/>
        </p:blipFill>
        <p:spPr>
          <a:xfrm>
            <a:off x="1835280" y="2354400"/>
            <a:ext cx="5257800" cy="4503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8046360" y="14436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ub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Theoretical subgroup: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Main task: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What is scientific gain of precision measurements of neutrino properties?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ff"/>
                </a:solidFill>
                <a:latin typeface="Arial"/>
              </a:rPr>
              <a:t>Origin of universe … c.f.</a:t>
            </a:r>
            <a:endParaRPr b="1" lang="en-US" sz="2400" spc="-1" strike="noStrike">
              <a:solidFill>
                <a:srgbClr val="ffcc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Origin of mass for LHC</a:t>
            </a:r>
            <a:endParaRPr b="1" lang="en-US" sz="2000" spc="-1" strike="noStrike">
              <a:solidFill>
                <a:srgbClr val="00ff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Super-symmetry – the last space-time symmetry – for ILC</a:t>
            </a:r>
            <a:endParaRPr b="1" lang="en-US" sz="2000" spc="-1" strike="noStrike">
              <a:solidFill>
                <a:srgbClr val="00f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ff"/>
                </a:solidFill>
                <a:latin typeface="Arial"/>
              </a:rPr>
              <a:t>Neutrino mass</a:t>
            </a:r>
            <a:endParaRPr b="1" lang="en-US" sz="2400" spc="-1" strike="noStrike">
              <a:solidFill>
                <a:srgbClr val="ffcc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Argument presented by Pilar</a:t>
            </a:r>
            <a:endParaRPr b="1" lang="en-US" sz="2000" spc="-1" strike="noStrike">
              <a:solidFill>
                <a:srgbClr val="00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Job in preparation for w/s #1: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Test to see if ‘origin of universe’ argument could be developed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ff"/>
                </a:solidFill>
                <a:latin typeface="Arial"/>
              </a:rPr>
              <a:t>Steve King (with KL as naïve follower)</a:t>
            </a:r>
            <a:endParaRPr b="1" lang="en-US" sz="2400" spc="-1" strike="noStrike">
              <a:solidFill>
                <a:srgbClr val="ffc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Development of mass-scale arguments 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ff"/>
                </a:solidFill>
                <a:latin typeface="Arial"/>
              </a:rPr>
              <a:t>Andre de Gouvea</a:t>
            </a:r>
            <a:endParaRPr b="1" lang="en-US" sz="2400" spc="-1" strike="noStrike">
              <a:solidFill>
                <a:srgbClr val="ff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291960" y="907920"/>
            <a:ext cx="763596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Marlett"/>
                <a:ea typeface="Marlett"/>
              </a:rPr>
              <a:t>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sitivity to unitarity and physics beyond S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8000" y="1628640"/>
            <a:ext cx="8346960" cy="94716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ndard scenario assumes three flavors and vanishing off-diagonal elements of the matter term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50920" y="5516640"/>
            <a:ext cx="8346960" cy="52056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Wingdings 3"/>
                <a:ea typeface="Wingdings 3"/>
              </a:rPr>
              <a:t>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enario 1: existence of sterile neutrin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0920" y="6159600"/>
            <a:ext cx="8346960" cy="6426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Wingdings 3"/>
                <a:ea typeface="Wingdings 3"/>
              </a:rPr>
              <a:t>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enario 2: existence of flavor changing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n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179280" y="2781360"/>
                <a:ext cx="5413320" cy="19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6" name=""/>
          <p:cNvSpPr/>
          <p:nvPr/>
        </p:nvSpPr>
        <p:spPr>
          <a:xfrm>
            <a:off x="250920" y="4869000"/>
            <a:ext cx="65530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ssible source of violation of unitarity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-11160"/>
            <a:ext cx="914400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ＭＳ Ｐゴシック"/>
                <a:ea typeface="ＭＳ Ｐゴシック"/>
              </a:rPr>
              <a:t>Phenomenological subgroup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814880" y="11592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Yasu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176520" y="3378240"/>
            <a:ext cx="2856960" cy="8254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Precision requir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to test scenarios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fld id="{578F7F6B-90F7-4192-A0B3-CA56A7E26C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Arial"/>
              </a:rPr>
              <a:t>Pheno/Experimental subgroup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99"/>
                </a:solidFill>
                <a:latin typeface="Arial"/>
              </a:rPr>
              <a:t>Calculate sensitivity in </a:t>
            </a:r>
            <a:r>
              <a:rPr b="1" lang="en-GB" sz="1800" spc="-1" strike="noStrike">
                <a:solidFill>
                  <a:srgbClr val="ffff99"/>
                </a:solidFill>
                <a:latin typeface="Symbol"/>
                <a:ea typeface="Symbol"/>
              </a:rPr>
              <a:t></a:t>
            </a:r>
            <a:r>
              <a:rPr b="1" lang="en-GB" sz="1800" spc="-1" strike="noStrike" baseline="-25000">
                <a:solidFill>
                  <a:srgbClr val="ffff99"/>
                </a:solidFill>
                <a:latin typeface="Arial"/>
              </a:rPr>
              <a:t>13</a:t>
            </a:r>
            <a:r>
              <a:rPr b="1" lang="en-GB" sz="1800" spc="-1" strike="noStrike">
                <a:solidFill>
                  <a:srgbClr val="ffff99"/>
                </a:solidFill>
                <a:latin typeface="Arial"/>
              </a:rPr>
              <a:t> - </a:t>
            </a:r>
            <a:r>
              <a:rPr b="1" lang="en-GB" sz="1800" spc="-1" strike="noStrike">
                <a:solidFill>
                  <a:srgbClr val="ffff99"/>
                </a:solidFill>
                <a:latin typeface="Symbol"/>
                <a:ea typeface="Symbol"/>
              </a:rPr>
              <a:t></a:t>
            </a:r>
            <a:r>
              <a:rPr b="1" lang="en-GB" sz="1800" spc="-1" strike="noStrike">
                <a:solidFill>
                  <a:srgbClr val="ffff99"/>
                </a:solidFill>
                <a:latin typeface="Arial"/>
              </a:rPr>
              <a:t> plane:</a:t>
            </a:r>
            <a:endParaRPr b="1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Two reference superbeams SPL, T2K, NOvA</a:t>
            </a: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Obtain BNL info for w/s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Two reference beta-beams (100/100), (350/350)</a:t>
            </a: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Baselines: 130, 700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Two reference neutrino factories (20, 50) – assume store both charges</a:t>
            </a: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Baselines </a:t>
            </a: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Define reference 1000, 3000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… </a:t>
            </a: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but hope that some optimisation can be done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99"/>
                </a:solidFill>
                <a:latin typeface="Arial"/>
              </a:rPr>
              <a:t>AEDL for options to be posted on WWW</a:t>
            </a:r>
            <a:endParaRPr b="1" lang="en-US" sz="1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Action: Patrick Huber/KL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Comparison of results: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ff00"/>
                </a:solidFill>
                <a:latin typeface="Arial"/>
              </a:rPr>
              <a:t>From GLOBES: Patrick Huber, Paul Harrison (et al)</a:t>
            </a:r>
            <a:endParaRPr b="1" lang="en-US" sz="1200" spc="-1" strike="noStrike">
              <a:solidFill>
                <a:srgbClr val="00ff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ff00"/>
                </a:solidFill>
                <a:latin typeface="Arial"/>
              </a:rPr>
              <a:t>From ‘Valencia code’: Pilar Hernandez (et al)</a:t>
            </a:r>
            <a:endParaRPr b="1" lang="en-US" sz="1200" spc="-1" strike="noStrike">
              <a:solidFill>
                <a:srgbClr val="00ff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ff00"/>
                </a:solidFill>
                <a:latin typeface="Arial"/>
              </a:rPr>
              <a:t>From ‘Madrid code’: Stefano Rigolin (et al.)</a:t>
            </a:r>
            <a:endParaRPr b="1" lang="en-US" sz="1200" spc="-1" strike="noStrike">
              <a:solidFill>
                <a:srgbClr val="00ff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What: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ff00"/>
                </a:solidFill>
                <a:latin typeface="Arial"/>
              </a:rPr>
              <a:t>Perform fits for small number of assumed parameter sets</a:t>
            </a:r>
            <a:endParaRPr b="1" lang="en-US" sz="1200" spc="-1" strike="noStrike">
              <a:solidFill>
                <a:srgbClr val="00ff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ff00"/>
                </a:solidFill>
                <a:latin typeface="Arial"/>
              </a:rPr>
              <a:t>Comment on discrete degeneracies</a:t>
            </a:r>
            <a:endParaRPr b="1" lang="en-US" sz="1200" spc="-1" strike="noStrike">
              <a:solidFill>
                <a:srgbClr val="00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Goal is to establish a baseline for development of comparison of facilities alone and in combination</a:t>
            </a: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00"/>
                </a:solidFill>
                <a:latin typeface="Arial"/>
              </a:rPr>
              <a:t>Need i/p from detector group … detector performance assumptions:</a:t>
            </a:r>
            <a:endParaRPr b="1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Suggest:</a:t>
            </a: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Iron Cal: MINOS + high granularity - for NF for 14Nov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LAr?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H</a:t>
            </a:r>
            <a:r>
              <a:rPr b="1" lang="en-GB" sz="1400" spc="-1" strike="noStrike" baseline="-25000">
                <a:solidFill>
                  <a:srgbClr val="ffccff"/>
                </a:solidFill>
                <a:latin typeface="Arial"/>
              </a:rPr>
              <a:t>2</a:t>
            </a: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O </a:t>
            </a:r>
            <a:r>
              <a:rPr b="1" lang="en-US" sz="1400" spc="-1" strike="noStrike">
                <a:solidFill>
                  <a:srgbClr val="ffccff"/>
                </a:solidFill>
                <a:latin typeface="Arial"/>
                <a:ea typeface="Arial"/>
              </a:rPr>
              <a:t>Ç – for sb and low gamma beta beam for 14Nov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ff"/>
                </a:solidFill>
                <a:latin typeface="Arial"/>
                <a:ea typeface="Arial"/>
              </a:rPr>
              <a:t>Scint – for high gamma beta beam for 14Nov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ff"/>
                </a:solidFill>
                <a:latin typeface="Arial"/>
                <a:ea typeface="Arial"/>
              </a:rPr>
              <a:t>Emmulsion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 challenging programme …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0" y="2420640"/>
            <a:ext cx="91440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…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but at least we’ll have started!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ontent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Introduction and motivation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The most difficult task (!)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What to assume about the machines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Impact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Muon physics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Work to do in preparation for first phys. grp. w/s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Theoretical subgroup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Phenomenological subgroup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Experimental subgroup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-2160"/>
            <a:ext cx="914400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The neutrino standard model?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Three active flavours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Three, Dirac, mass eigenstates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ff"/>
                </a:solidFill>
                <a:latin typeface="Arial"/>
              </a:rPr>
              <a:t>Neutrino mass scale</a:t>
            </a:r>
            <a:endParaRPr b="1" lang="en-US" sz="2400" spc="-1" strike="noStrike">
              <a:solidFill>
                <a:srgbClr val="ffcc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ff"/>
                </a:solidFill>
                <a:latin typeface="Arial"/>
              </a:rPr>
              <a:t>Mass hierarchy</a:t>
            </a:r>
            <a:endParaRPr b="1" lang="en-US" sz="2400" spc="-1" strike="noStrike">
              <a:solidFill>
                <a:srgbClr val="ffc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MNS mixing matrix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ff"/>
                </a:solidFill>
                <a:latin typeface="Arial"/>
              </a:rPr>
              <a:t>Three mixing angles</a:t>
            </a:r>
            <a:endParaRPr b="1" lang="en-US" sz="2400" spc="-1" strike="noStrike">
              <a:solidFill>
                <a:srgbClr val="ffcc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ff"/>
                </a:solidFill>
                <a:latin typeface="Arial"/>
              </a:rPr>
              <a:t>One CP phase</a:t>
            </a:r>
            <a:endParaRPr b="1" lang="en-US" sz="2400" spc="-1" strike="noStrike">
              <a:solidFill>
                <a:srgbClr val="ff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Physics beyond </a:t>
            </a:r>
            <a:r>
              <a:rPr b="1" i="1" lang="en-GB" sz="3200" spc="-1" strike="noStrike">
                <a:solidFill>
                  <a:srgbClr val="ffff99"/>
                </a:solidFill>
                <a:latin typeface="Arial"/>
              </a:rPr>
              <a:t>The</a:t>
            </a: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 Standard Mod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93600" y="3716280"/>
                <a:ext cx="901548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ν</m:t>
                                  </m:r>
                                </m:e>
                                <m:sub>
                                  <m:r>
                                    <m:t xml:space="preserve">e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ν</m:t>
                                  </m:r>
                                </m:e>
                                <m:sub>
                                  <m:r>
                                    <m:t xml:space="preserve">μ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ν</m:t>
                                  </m:r>
                                </m:e>
                                <m:sub>
                                  <m:r>
                                    <m:t xml:space="preserve">τ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iδ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i</m:t>
                                  </m:r>
                                  <m:r>
                                    <m:t xml:space="preserve">δ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ν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ν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ν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372360" y="1276200"/>
            <a:ext cx="277164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otivation: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3635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The masses are so different, that must be a clue …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Neutrino mixing so different from quark mixing, that must be clue …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3635280" y="781200"/>
            <a:ext cx="5508720" cy="27190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rcRect l="0" t="0" r="1346" b="0"/>
          <a:stretch/>
        </p:blipFill>
        <p:spPr>
          <a:xfrm>
            <a:off x="3568680" y="4581360"/>
            <a:ext cx="5575320" cy="16146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5588280" y="141120"/>
            <a:ext cx="34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de Gouvea, Hernande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399276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otivation: 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the era of sensitivity …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0" y="2611440"/>
            <a:ext cx="9144000" cy="4249080"/>
            <a:chOff x="0" y="2611440"/>
            <a:chExt cx="9144000" cy="4249080"/>
          </a:xfrm>
        </p:grpSpPr>
        <p:pic>
          <p:nvPicPr>
            <p:cNvPr id="260" name="" descr=""/>
            <p:cNvPicPr/>
            <p:nvPr/>
          </p:nvPicPr>
          <p:blipFill>
            <a:blip r:embed="rId2"/>
            <a:stretch/>
          </p:blipFill>
          <p:spPr>
            <a:xfrm>
              <a:off x="0" y="2611440"/>
              <a:ext cx="9144000" cy="424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1440" y="6400800"/>
              <a:ext cx="1738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66"/>
                  </a:solidFill>
                  <a:latin typeface="Arial"/>
                </a:rPr>
                <a:t>de Gouvea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3911760" y="741240"/>
            <a:ext cx="17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ernande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2556000" y="3429000"/>
            <a:ext cx="4000320" cy="3429000"/>
            <a:chOff x="2556000" y="3429000"/>
            <a:chExt cx="4000320" cy="3429000"/>
          </a:xfrm>
        </p:grpSpPr>
        <p:sp>
          <p:nvSpPr>
            <p:cNvPr id="264" name=""/>
            <p:cNvSpPr/>
            <p:nvPr/>
          </p:nvSpPr>
          <p:spPr>
            <a:xfrm>
              <a:off x="2556000" y="3429000"/>
              <a:ext cx="4000320" cy="342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265" name="" descr=""/>
            <p:cNvPicPr/>
            <p:nvPr/>
          </p:nvPicPr>
          <p:blipFill>
            <a:blip r:embed="rId1"/>
            <a:srcRect l="0" t="7231" r="7741" b="2337"/>
            <a:stretch/>
          </p:blipFill>
          <p:spPr>
            <a:xfrm>
              <a:off x="2556000" y="3470400"/>
              <a:ext cx="3456000" cy="33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4358160" y="3645000"/>
              <a:ext cx="150048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ff"/>
                  </a:solidFill>
                  <a:latin typeface="Arial"/>
                </a:rPr>
                <a:t>Neutrino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ff"/>
                  </a:solidFill>
                  <a:latin typeface="Arial"/>
                </a:rPr>
                <a:t>Factory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ff"/>
                  </a:solidFill>
                  <a:latin typeface="Symbol"/>
                  <a:ea typeface="Symbol"/>
                </a:rPr>
                <a:t>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ff"/>
                  </a:solidFill>
                  <a:latin typeface="Arial"/>
                </a:rPr>
                <a:t>Super-beam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5400000">
              <a:off x="4797360" y="4930560"/>
              <a:ext cx="293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66"/>
                  </a:solidFill>
                  <a:latin typeface="Arial"/>
                </a:rPr>
                <a:t>O.Mena (hep-ph/0503097)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otivation: 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… and precision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765000"/>
            <a:ext cx="9144000" cy="26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0" y="1254240"/>
            <a:ext cx="9144000" cy="21747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5535720" y="836640"/>
            <a:ext cx="35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Burguet et al. (hep-ph/0503021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40" y="76500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Beta-bea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3438360"/>
            <a:ext cx="9144000" cy="0"/>
          </a:xfrm>
          <a:prstGeom prst="line">
            <a:avLst/>
          </a:prstGeom>
          <a:ln w="7632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-2880" y="90360"/>
            <a:ext cx="50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cc"/>
                </a:solidFill>
                <a:uFillTx/>
                <a:latin typeface="Times New Roman"/>
              </a:rPr>
              <a:t>Two main physics strateg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79280" y="765000"/>
            <a:ext cx="8964720" cy="265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se of  the high neutrino rate (&gt;10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year) and energy (10-50 GeV) of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ino Factory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LMD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ff0000"/>
                </a:solidFill>
                <a:latin typeface="Times New Roman"/>
              </a:rPr>
              <a:t>(“SuperMinos”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tector of large but not huge mass (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50-100 K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ecessarily magnet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a dense magnetized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Iron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detector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or, possibly, Li-Argon),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few 1000 Km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away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9280" y="3573360"/>
            <a:ext cx="8964720" cy="3751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se of the lower neutrino rate (10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18-19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year) and energy (sub-GeV) o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Betabeam + “Megaton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ow density detector of very large mass (0.5-1 Mt)             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d volume       (0.5-1 Mm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on magnetic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a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Water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Cerenkov detector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or possibly, again Li-Argon),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 few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100 Km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away (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except for AG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66760" y="1936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25040" y="1484280"/>
            <a:ext cx="1682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</a:t>
            </a:r>
            <a:r>
              <a:rPr b="1" lang="el-GR" sz="2400" spc="-1" strike="noStrike">
                <a:solidFill>
                  <a:srgbClr val="ff0000"/>
                </a:solidFill>
                <a:latin typeface="Times New Roman"/>
              </a:rPr>
              <a:t>ν</a:t>
            </a:r>
            <a:r>
              <a:rPr b="1" lang="it-IT" sz="24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lang="el-GR" sz="2400" spc="-1" strike="noStrike">
                <a:solidFill>
                  <a:srgbClr val="ff0000"/>
                </a:solidFill>
                <a:latin typeface="Times New Roman"/>
              </a:rPr>
              <a:t>ν</a:t>
            </a:r>
            <a:r>
              <a:rPr b="1" lang="it-IT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476360" y="1628640"/>
            <a:ext cx="144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92360" y="4365720"/>
            <a:ext cx="95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it-IT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ff0000"/>
                </a:solidFill>
                <a:latin typeface="Times New Roman"/>
              </a:rPr>
              <a:t>ν</a:t>
            </a:r>
            <a:r>
              <a:rPr b="1" lang="it-IT" sz="24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6920" y="272880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Nufact0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7600" y="585144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NNN0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17520" y="3816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Palladin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6400800"/>
            <a:ext cx="339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cc"/>
                </a:solidFill>
                <a:latin typeface="Times New Roman"/>
              </a:rPr>
              <a:t>V. Palladino:Super Conventional Beams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960" y="3137760"/>
            <a:ext cx="9055080" cy="5814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R&amp;D into machine (MERIT, MICE, …) essenti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fld id="{7FE55FC7-7A1C-4880-B15C-F5D69305626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The most challenging task: 1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660360" y="1908000"/>
            <a:ext cx="246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Increment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4920" y="771480"/>
            <a:ext cx="6624720" cy="6086520"/>
          </a:xfrm>
          <a:prstGeom prst="rect">
            <a:avLst/>
          </a:prstGeom>
          <a:ln w="0">
            <a:noFill/>
          </a:ln>
        </p:spPr>
      </p:pic>
      <p:grpSp>
        <p:nvGrpSpPr>
          <p:cNvPr id="289" name=""/>
          <p:cNvGrpSpPr/>
          <p:nvPr/>
        </p:nvGrpSpPr>
        <p:grpSpPr>
          <a:xfrm>
            <a:off x="3884760" y="1176480"/>
            <a:ext cx="2417760" cy="2950920"/>
            <a:chOff x="3884760" y="1176480"/>
            <a:chExt cx="2417760" cy="2950920"/>
          </a:xfrm>
        </p:grpSpPr>
        <p:sp>
          <p:nvSpPr>
            <p:cNvPr id="290" name=""/>
            <p:cNvSpPr/>
            <p:nvPr/>
          </p:nvSpPr>
          <p:spPr>
            <a:xfrm>
              <a:off x="3884760" y="1176480"/>
              <a:ext cx="2417760" cy="5806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ra of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sensitivity &amp; precisi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62920" y="1811520"/>
              <a:ext cx="0" cy="231588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1725480" y="762120"/>
            <a:ext cx="7418520" cy="6095880"/>
            <a:chOff x="1725480" y="762120"/>
            <a:chExt cx="7418520" cy="6095880"/>
          </a:xfrm>
        </p:grpSpPr>
        <p:grpSp>
          <p:nvGrpSpPr>
            <p:cNvPr id="293" name=""/>
            <p:cNvGrpSpPr/>
            <p:nvPr/>
          </p:nvGrpSpPr>
          <p:grpSpPr>
            <a:xfrm>
              <a:off x="2700360" y="762120"/>
              <a:ext cx="6443640" cy="6095880"/>
              <a:chOff x="2700360" y="762120"/>
              <a:chExt cx="6443640" cy="6095880"/>
            </a:xfrm>
          </p:grpSpPr>
          <p:grpSp>
            <p:nvGrpSpPr>
              <p:cNvPr id="294" name=""/>
              <p:cNvGrpSpPr/>
              <p:nvPr/>
            </p:nvGrpSpPr>
            <p:grpSpPr>
              <a:xfrm>
                <a:off x="2700360" y="765000"/>
                <a:ext cx="6443640" cy="6093000"/>
                <a:chOff x="2700360" y="765000"/>
                <a:chExt cx="6443640" cy="609300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3492360" y="765000"/>
                  <a:ext cx="5651640" cy="6093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6" name=""/>
                <p:cNvGrpSpPr/>
                <p:nvPr/>
              </p:nvGrpSpPr>
              <p:grpSpPr>
                <a:xfrm>
                  <a:off x="2700360" y="771480"/>
                  <a:ext cx="1800360" cy="6086520"/>
                  <a:chOff x="2700360" y="771480"/>
                  <a:chExt cx="1800360" cy="6086520"/>
                </a:xfrm>
              </p:grpSpPr>
              <p:grpSp>
                <p:nvGrpSpPr>
                  <p:cNvPr id="297" name=""/>
                  <p:cNvGrpSpPr/>
                  <p:nvPr/>
                </p:nvGrpSpPr>
                <p:grpSpPr>
                  <a:xfrm>
                    <a:off x="2700360" y="771480"/>
                    <a:ext cx="1800360" cy="6086520"/>
                    <a:chOff x="2700360" y="771480"/>
                    <a:chExt cx="1800360" cy="6086520"/>
                  </a:xfrm>
                </p:grpSpPr>
                <p:pic>
                  <p:nvPicPr>
                    <p:cNvPr id="298" name="" descr=""/>
                    <p:cNvPicPr/>
                    <p:nvPr/>
                  </p:nvPicPr>
                  <p:blipFill>
                    <a:blip r:embed="rId2"/>
                    <a:srcRect l="78267" t="0" r="0" b="0"/>
                    <a:stretch/>
                  </p:blipFill>
                  <p:spPr>
                    <a:xfrm>
                      <a:off x="3060720" y="771480"/>
                      <a:ext cx="1440000" cy="608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99" name="" descr=""/>
                    <p:cNvPicPr/>
                    <p:nvPr/>
                  </p:nvPicPr>
                  <p:blipFill>
                    <a:blip r:embed="rId3"/>
                    <a:srcRect l="41314" t="85081" r="33693" b="0"/>
                    <a:stretch/>
                  </p:blipFill>
                  <p:spPr>
                    <a:xfrm>
                      <a:off x="2700360" y="5950080"/>
                      <a:ext cx="1656000" cy="90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300" name=""/>
                  <p:cNvSpPr/>
                  <p:nvPr/>
                </p:nvSpPr>
                <p:spPr>
                  <a:xfrm>
                    <a:off x="3059280" y="2924280"/>
                    <a:ext cx="72720" cy="12967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1" name=""/>
              <p:cNvSpPr/>
              <p:nvPr/>
            </p:nvSpPr>
            <p:spPr>
              <a:xfrm>
                <a:off x="4572000" y="762120"/>
                <a:ext cx="4572000" cy="609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99"/>
                  </a:spcBef>
                  <a:buClr>
                    <a:srgbClr val="ccff33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99"/>
                    </a:solidFill>
                    <a:latin typeface="Arial"/>
                  </a:rPr>
                  <a:t>Optimum schedule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lvl="1" marL="743040" indent="-285840">
                  <a:lnSpc>
                    <a:spcPct val="100000"/>
                  </a:lnSpc>
                  <a:spcBef>
                    <a:spcPts val="700"/>
                  </a:spcBef>
                  <a:buClr>
                    <a:srgbClr val="cc9900"/>
                  </a:buClr>
                  <a:buSzPct val="6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Science driven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lvl="1" marL="743040" indent="-285840">
                  <a:lnSpc>
                    <a:spcPct val="100000"/>
                  </a:lnSpc>
                  <a:spcBef>
                    <a:spcPts val="700"/>
                  </a:spcBef>
                  <a:buClr>
                    <a:srgbClr val="cc9900"/>
                  </a:buClr>
                  <a:buSzPct val="6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Potential match to funding window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100000"/>
                  </a:lnSpc>
                  <a:spcBef>
                    <a:spcPts val="799"/>
                  </a:spcBef>
                  <a:buClr>
                    <a:srgbClr val="ccff33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99"/>
                    </a:solidFill>
                    <a:latin typeface="Arial"/>
                  </a:rPr>
                  <a:t>Challenge: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lvl="1" marL="743040" indent="-285840">
                  <a:lnSpc>
                    <a:spcPct val="100000"/>
                  </a:lnSpc>
                  <a:spcBef>
                    <a:spcPts val="700"/>
                  </a:spcBef>
                  <a:buClr>
                    <a:srgbClr val="cc9900"/>
                  </a:buClr>
                  <a:buSzPct val="6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To make the case!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1725480" y="1138320"/>
              <a:ext cx="2417760" cy="2950920"/>
              <a:chOff x="1725480" y="1138320"/>
              <a:chExt cx="2417760" cy="2950920"/>
            </a:xfrm>
          </p:grpSpPr>
          <p:sp>
            <p:nvSpPr>
              <p:cNvPr id="303" name=""/>
              <p:cNvSpPr/>
              <p:nvPr/>
            </p:nvSpPr>
            <p:spPr>
              <a:xfrm>
                <a:off x="1725480" y="1138320"/>
                <a:ext cx="2417760" cy="580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Era of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sensitivity &amp; precisio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203640" y="1773360"/>
                <a:ext cx="0" cy="231588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13:55:13Z</dcterms:created>
  <dc:creator>long</dc:creator>
  <dc:description/>
  <dc:language>en-US</dc:language>
  <cp:lastModifiedBy>long</cp:lastModifiedBy>
  <dcterms:modified xsi:type="dcterms:W3CDTF">2005-09-24T07:11:09Z</dcterms:modified>
  <cp:revision>31</cp:revision>
  <dc:subject/>
  <dc:title>Introduction to Experimental sub-group</dc:title>
</cp:coreProperties>
</file>